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AE9C-F957-4A26-BA14-3EE3DBAF9C0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AF2C-7E3B-4DB3-8E96-6A5396F5A6D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C60-3C7E-456D-9FF9-415168D7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8B8-25DE-426F-B3E4-4281C0F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1FD-C213-4F92-8923-31C9A69B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7C5-D73C-4859-88E3-4CC30F39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A8A-63D2-493C-A771-B9117318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CA0-FC92-4009-9320-4AD13742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4D9-EAFF-4AD5-8C9F-37FBB4E7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99F-3058-4CC8-BF13-C304EE8E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794-40F0-4139-AD88-D9D2D49D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764-40A7-4F2E-A626-E2595C4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85C-AA10-49DF-9C11-F4BE4E81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FD9-F927-4B3F-BB07-742EF3E9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760A-C1E4-40A5-8882-2BEC354D6E4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601C-3C51-4E48-A205-19A777EC6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F39-4225-4072-A95C-903AFF3DCC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836-B29F-4506-8131-B8E842571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229-FC6A-47F3-9C35-5B241D0EEC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B73F-0770-4243-8446-7664147F2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1A6-49F0-4C03-9C30-B2D4F28A39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0E17-07A6-49CC-9B6B-D653B27A6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A0F-7C10-470F-9151-017DABEAE3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7714-67A0-4EF4-B710-3277C6CC1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412-3464-4D73-841C-B2CBB5B41F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заработка в 12             определение среднего заработка в 24 календарных месяцах, перед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месяцем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, предшествующих году наступл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наступления страхового случая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страхового случ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дневного                       определение среднего дневного зарабо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(общий заработок  делим                (общий заработок делим на 73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на кол-во календарных дней, за которы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лучен заработо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 среднего дневного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из предельной велич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азы (415000 : 36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сравнение данных, полученных    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и действии 2 и 3 ша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из меньшей величины определяем                    из среднего дневного заработка, получен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размер  дневного пособия                                   в действии 2, определяем размер днев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определение суммы пособия                              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60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A36-F18D-48CF-992E-6F0EE6676D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EE0B-7DA7-4C4B-AAFC-5F4AEB31D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en-US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470-974D-4748-890F-4CD56A332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50A0-2068-4EF2-A653-44B982E1A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E0E-FB60-442F-958F-19B6A026D3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79F9-EC51-4D35-B5AB-BE0A05BB1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F00-20D5-420A-BF51-BD1D7154F7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5044-4D7E-4A4F-A406-AEF282AB8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Дуга 12"/>
          <p:cNvSpPr/>
          <p:nvPr/>
        </p:nvSpPr>
        <p:spPr>
          <a:xfrm>
            <a:off x="7000920" y="5072040"/>
            <a:ext cx="46080" cy="46080"/>
          </a:xfrm>
          <a:custGeom>
            <a:avLst/>
            <a:gdLst>
              <a:gd name="textAreaLeft" fmla="*/ 23040 w 46080"/>
              <a:gd name="textAreaRight" fmla="*/ 46440 w 460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  <a:lnTo>
                  <a:pt x="23019" y="23019"/>
                </a:lnTo>
                <a:close/>
              </a:path>
              <a:path fill="none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</a:path>
            </a:pathLst>
          </a:custGeom>
          <a:noFill/>
          <a:ln w="9360">
            <a:solidFill>
              <a:srgbClr val="fd82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51D-A581-45BC-8B4F-566FF9E127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6CA-396B-43FD-8A46-816F6BA57B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B699-85BB-4F68-9E3B-07F206EDB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DC3-5FC1-48D6-A44D-9D9B905520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1D66-CC67-4D3F-9FD6-66BC62556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CCF-F45B-4966-82A3-79A8C81C46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161B-5D4E-4FAA-A6DA-0E802A565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1B9-F2C8-4BDF-A478-B659A7A004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0-12-16T06:34:27Z</dcterms:modified>
  <cp:revision>304</cp:revision>
  <dc:subject/>
  <dc:title>Слайд 1</dc:title>
</cp:coreProperties>
</file>